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8ae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A1B7-3BE0-4D82-AA0E-8F9709910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5351-4CB4-457A-BE35-ECC89C44996D}" type="slidenum">
              <a:rPr b="0" lang="en-GB" sz="1200" spc="-1" strike="noStrike">
                <a:solidFill>
                  <a:srgbClr val="008ae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8932-AAB5-4593-B74F-9BE4C3D8C3B2}" type="slidenum">
              <a:rPr b="0" lang="en-GB" sz="1200" spc="-1" strike="noStrike">
                <a:solidFill>
                  <a:srgbClr val="008ae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4425-7065-4AE0-A2E7-2084FD684E3B}" type="slidenum">
              <a:rPr b="0" lang="en-GB" sz="1200" spc="-1" strike="noStrike">
                <a:solidFill>
                  <a:srgbClr val="008ae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3F01-7F2F-4B61-AE37-54D6122A8ECE}" type="slidenum">
              <a:rPr b="0" lang="en-GB" sz="1200" spc="-1" strike="noStrike">
                <a:solidFill>
                  <a:srgbClr val="008ae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86D5-2FBF-4D3E-94D5-DC35E74FACAD}" type="slidenum">
              <a:rPr b="0" lang="en-GB" sz="1200" spc="-1" strike="noStrike">
                <a:solidFill>
                  <a:srgbClr val="008ae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C1E0-F499-4D35-BAD7-E5912A7EFF95}" type="slidenum">
              <a:rPr b="0" lang="en-GB" sz="1200" spc="-1" strike="noStrike">
                <a:solidFill>
                  <a:srgbClr val="008ae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4843-5286-4F16-B4E9-D0412DD4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408-C87B-4B9E-9F26-C014BE2C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25F-CA90-4C02-9B0F-FDAA2907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BF31-883A-4E9F-9A82-E71E4DB8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71E8-BDC4-4477-A0EF-ABA62348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5E27-9435-41E4-83AC-903D1A60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4F71-F976-4C66-857C-AFD6CB4B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7AE5-10EC-4DE8-A177-D6508D35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0B0B-0B8E-475D-8929-482B781D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9351-5B26-449F-AF30-395306CD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CA37-0950-46F3-B9E5-7DEB22BD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D323-A79E-4214-9327-09102B5B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3D41-678C-46D6-B6A9-E84E38CD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A44A-99CA-456A-AFE8-BB1CD435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518E-7187-4BD9-8143-1E57D7EB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E58C-AD6A-4CA2-9773-751C13DC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8249-64B0-43CA-BAE8-BC7C0BA6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F9FE-3A10-42B5-B916-A4917DD3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7005-0C2C-4D85-9261-52DB8574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4B98-DC39-4BAF-B788-A1225290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BDF-1BEB-4AAE-8877-C037B8C6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1E0C-1043-4E8C-AA9B-B295D66E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117-A396-47E9-9254-AC25E803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6E6-ABE8-43DC-A034-D43C5B28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8ae8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8ae8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8ae8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8ae8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8ae8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8ae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8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8ae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8a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8a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E59D-F677-4EB8-B668-CA84D4595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8ae8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8ae8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8ae8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8ae8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8ae8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8ae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8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8ae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8a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8a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ae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9FA3-5C0B-4225-A8AF-4BF73F4A8C7A}" type="slidenum">
              <a:rPr b="0" lang="en-US" sz="1400" spc="-1" strike="noStrike">
                <a:solidFill>
                  <a:srgbClr val="008ae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0068ae"/>
                </a:solidFill>
                <a:latin typeface="Times New Roman"/>
              </a:rPr>
              <a:t>ACID-BASE STATUS</a:t>
            </a:r>
            <a:endParaRPr b="0" lang="en-US" sz="5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8ae8"/>
                </a:solidFill>
                <a:latin typeface="Arial"/>
              </a:rPr>
              <a:t>OXYGENATION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68ae"/>
                </a:solidFill>
                <a:latin typeface="Arial"/>
              </a:rPr>
              <a:t>Oxygenation</a:t>
            </a: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Oxygen necessary in the process of oxidative phosphorylation (ATP) in mitochondria-90%</a:t>
            </a:r>
            <a:r>
              <a:rPr b="0" lang="sr-Latn-CS" sz="2800" spc="-1" strike="noStrike">
                <a:solidFill>
                  <a:srgbClr val="008ae8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68ae"/>
                </a:solidFill>
                <a:latin typeface="Arial"/>
              </a:rPr>
              <a:t>Oxygenation</a:t>
            </a: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Arterial PO2 depends on alveolar PO2</a:t>
            </a: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Alveolar-arterial difference in PO2 increases in lung disease (shunt, dead space)</a:t>
            </a: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And the difference in healthy people is about 10kPa (simplified 1%O2=1kPa)</a:t>
            </a: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We treat hypoxemia by increasing FiO2</a:t>
            </a: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68ae"/>
                </a:solidFill>
                <a:latin typeface="Arial"/>
              </a:rPr>
              <a:t>Interpreting gas analyzes in 5 steps</a:t>
            </a:r>
            <a:endParaRPr b="0" lang="en-US" sz="40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8ae8"/>
                </a:solidFill>
                <a:latin typeface="Arial"/>
              </a:rPr>
              <a:t>1. Assess oxygenation. Is there a significant A-a gradient?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8ae8"/>
                </a:solidFill>
                <a:latin typeface="Arial"/>
              </a:rPr>
              <a:t>2. pH. Alkalemia or acidemia?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8ae8"/>
                </a:solidFill>
                <a:latin typeface="Arial"/>
              </a:rPr>
              <a:t>3. PaCO2 &gt; 6 kPa-respiratory acidosis, or compensation of metabolic alkalosis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8ae8"/>
                </a:solidFill>
                <a:latin typeface="Arial"/>
              </a:rPr>
              <a:t>                         </a:t>
            </a:r>
            <a:r>
              <a:rPr b="0" lang="sr-Latn-CS" sz="3200" spc="-1" strike="noStrike">
                <a:solidFill>
                  <a:srgbClr val="008ae8"/>
                </a:solidFill>
                <a:latin typeface="Arial"/>
              </a:rPr>
              <a:t>&lt;4.7 kPa-respiratory alkalosis or comp. metabolic acidosis</a:t>
            </a:r>
            <a:r>
              <a:rPr b="0" lang="sr-Latn-CS" sz="3200" spc="-1" strike="noStrike">
                <a:solidFill>
                  <a:srgbClr val="008ae8"/>
                </a:solidFill>
                <a:latin typeface="Arial"/>
                <a:ea typeface="Arial"/>
              </a:rPr>
              <a:t>                    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68ae"/>
                </a:solidFill>
                <a:latin typeface="Arial"/>
              </a:rPr>
              <a:t>Interpreting gas analyzes in 5 steps</a:t>
            </a:r>
            <a:endParaRPr b="0" lang="en-US" sz="40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4. HCO3 &lt; 22mmol/l-metabolic acidosis or compensation of res alkalosis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&gt; 26mmol/l-metabolic alkalosis or compensation of res acidosis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5. Combine data 2. 3. and 4. E.g. low pH and high PaCO2-res acidosis, and if PaCO2 is low then it is res compensation of metabolic acidosis. Mixed acid-base disorders are also possible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68ae"/>
                </a:solidFill>
                <a:latin typeface="Arial"/>
              </a:rPr>
              <a:t>Slučaj 1</a:t>
            </a:r>
            <a:endParaRPr b="0" lang="en-US" sz="40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Anamnesti</a:t>
            </a:r>
            <a:r>
              <a:rPr b="0" lang="sr-Latn-CS" sz="2800" spc="-1" strike="noStrike">
                <a:solidFill>
                  <a:srgbClr val="7f7f7f"/>
                </a:solidFill>
                <a:latin typeface="Arial"/>
              </a:rPr>
              <a:t>čki podaci</a:t>
            </a: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8ae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8ae8"/>
                </a:solidFill>
                <a:latin typeface="Arial"/>
              </a:rPr>
              <a:t>2</a:t>
            </a:r>
            <a:r>
              <a:rPr b="0" lang="sr-Latn-RS" sz="2800" spc="-1" strike="noStrike">
                <a:solidFill>
                  <a:srgbClr val="008ae8"/>
                </a:solidFill>
                <a:latin typeface="Arial"/>
              </a:rPr>
              <a:t>0</a:t>
            </a:r>
            <a:r>
              <a:rPr b="0" lang="sr-Latn-CS" sz="2800" spc="-1" strike="noStrike">
                <a:solidFill>
                  <a:srgbClr val="008ae8"/>
                </a:solidFill>
                <a:latin typeface="Arial"/>
              </a:rPr>
              <a:t> –godišnji muškarac je pao sa motocikla. Na putu do bolnice pada u duboku komu, lekari Hitne pomoći joj plasiraju </a:t>
            </a:r>
            <a:r>
              <a:rPr b="0" lang="en-GB" sz="2800" spc="-1" strike="noStrike">
                <a:solidFill>
                  <a:srgbClr val="008ae8"/>
                </a:solidFill>
                <a:latin typeface="Arial"/>
              </a:rPr>
              <a:t>orofaringealni</a:t>
            </a:r>
            <a:r>
              <a:rPr b="0" lang="sr-Latn-CS" sz="2800" spc="-1" strike="noStrike">
                <a:solidFill>
                  <a:srgbClr val="008ae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8ae8"/>
                </a:solidFill>
                <a:latin typeface="Arial"/>
              </a:rPr>
              <a:t>airway</a:t>
            </a:r>
            <a:r>
              <a:rPr b="0" lang="sr-Latn-CS" sz="2800" spc="-1" strike="noStrike">
                <a:solidFill>
                  <a:srgbClr val="008ae8"/>
                </a:solidFill>
                <a:latin typeface="Arial"/>
              </a:rPr>
              <a:t> i daju mu kiseonik u visokom protoku preko maske za lice. Radite </a:t>
            </a:r>
            <a:r>
              <a:rPr b="0" lang="en-GB" sz="2800" spc="-1" strike="noStrike">
                <a:solidFill>
                  <a:srgbClr val="008ae8"/>
                </a:solidFill>
                <a:latin typeface="Arial"/>
              </a:rPr>
              <a:t> arte</a:t>
            </a:r>
            <a:r>
              <a:rPr b="0" lang="sr-Latn-CS" sz="2800" spc="-1" strike="noStrike">
                <a:solidFill>
                  <a:srgbClr val="008ae8"/>
                </a:solidFill>
                <a:latin typeface="Arial"/>
              </a:rPr>
              <a:t>rijske gasne analize</a:t>
            </a: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8ae8"/>
                </a:solidFill>
                <a:latin typeface="Arial"/>
              </a:rPr>
              <a:t>Korak </a:t>
            </a:r>
            <a:r>
              <a:rPr b="0" lang="en-GB" sz="2800" spc="-1" strike="noStrike">
                <a:solidFill>
                  <a:srgbClr val="008ae8"/>
                </a:solidFill>
                <a:latin typeface="Arial"/>
              </a:rPr>
              <a:t>1: </a:t>
            </a:r>
            <a:r>
              <a:rPr b="0" lang="sr-Latn-CS" sz="2800" spc="-1" strike="noStrike">
                <a:solidFill>
                  <a:srgbClr val="008ae8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8ae8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8ae8"/>
                </a:solidFill>
                <a:latin typeface="Arial"/>
              </a:rPr>
              <a:t>Korak 1: Kako je pacijent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8ae8"/>
                </a:solidFill>
                <a:latin typeface="Arial"/>
              </a:rPr>
              <a:t>Sniženi nivo svesti će dovesti do hipoventilacije i smanjene oksigenacije, uzrokujući povećanje </a:t>
            </a:r>
            <a:r>
              <a:rPr b="0" lang="en-GB" sz="2800" spc="-1" strike="noStrike">
                <a:solidFill>
                  <a:srgbClr val="008ae8"/>
                </a:solidFill>
                <a:latin typeface="Arial"/>
              </a:rPr>
              <a:t> PaCO</a:t>
            </a:r>
            <a:r>
              <a:rPr b="0" lang="en-GB" sz="2800" spc="-1" strike="noStrike" baseline="-25000">
                <a:solidFill>
                  <a:srgbClr val="008ae8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008ae8"/>
                </a:solidFill>
                <a:latin typeface="Arial"/>
              </a:rPr>
              <a:t>,</a:t>
            </a:r>
            <a:r>
              <a:rPr b="0" lang="en-GB" sz="2800" spc="-1" strike="noStrike" baseline="-25000">
                <a:solidFill>
                  <a:srgbClr val="008ae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8ae8"/>
                </a:solidFill>
                <a:latin typeface="Arial"/>
              </a:rPr>
              <a:t>a respirator</a:t>
            </a:r>
            <a:r>
              <a:rPr b="0" lang="sr-Latn-CS" sz="2800" spc="-1" strike="noStrike">
                <a:solidFill>
                  <a:srgbClr val="008ae8"/>
                </a:solidFill>
                <a:latin typeface="Arial"/>
              </a:rPr>
              <a:t>nu</a:t>
            </a:r>
            <a:r>
              <a:rPr b="0" lang="en-GB" sz="2800" spc="-1" strike="noStrike">
                <a:solidFill>
                  <a:srgbClr val="008ae8"/>
                </a:solidFill>
                <a:latin typeface="Arial"/>
              </a:rPr>
              <a:t> acido</a:t>
            </a:r>
            <a:r>
              <a:rPr b="0" lang="sr-Latn-CS" sz="2800" spc="-1" strike="noStrike">
                <a:solidFill>
                  <a:srgbClr val="008ae8"/>
                </a:solidFill>
                <a:latin typeface="Arial"/>
              </a:rPr>
              <a:t>zu</a:t>
            </a:r>
            <a:r>
              <a:rPr b="0" lang="en-GB" sz="2800" spc="-1" strike="noStrike">
                <a:solidFill>
                  <a:srgbClr val="008ae8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8ae8"/>
                </a:solidFill>
                <a:latin typeface="Arial"/>
              </a:rPr>
              <a:t>Nije verovatno da će biti kompenzacije (porasta bikarbonata)</a:t>
            </a: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68ae"/>
                </a:solidFill>
                <a:latin typeface="Arial"/>
              </a:rPr>
              <a:t>Slučaj 1</a:t>
            </a:r>
            <a:endParaRPr b="0" lang="en-US" sz="40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8ae8"/>
                </a:solidFill>
                <a:latin typeface="Arial"/>
              </a:rPr>
              <a:t>Inspired oxygen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8ae8"/>
                </a:solidFill>
                <a:latin typeface="Arial"/>
              </a:rPr>
              <a:t>40% (FiO</a:t>
            </a:r>
            <a:r>
              <a:rPr b="0" lang="en-GB" sz="2400" spc="-1" strike="noStrike" baseline="-25000">
                <a:solidFill>
                  <a:srgbClr val="008ae8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8ae8"/>
                </a:solidFill>
                <a:latin typeface="Arial"/>
              </a:rPr>
              <a:t> 0.4)</a:t>
            </a:r>
            <a:endParaRPr b="0" lang="en-US" sz="2400" spc="-1" strike="noStrike">
              <a:solidFill>
                <a:srgbClr val="008ae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8ae8"/>
                </a:solidFill>
                <a:uFillTx/>
                <a:latin typeface="Arial"/>
              </a:rPr>
              <a:t>normal values</a:t>
            </a:r>
            <a:endParaRPr b="0" lang="en-US" sz="2400" spc="-1" strike="noStrike">
              <a:solidFill>
                <a:srgbClr val="008ae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8ae8"/>
                </a:solidFill>
                <a:latin typeface="Arial"/>
              </a:rPr>
              <a:t>PaO</a:t>
            </a:r>
            <a:r>
              <a:rPr b="0" lang="en-GB" sz="2400" spc="-1" strike="noStrike" baseline="-25000">
                <a:solidFill>
                  <a:srgbClr val="008ae8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8ae8"/>
                </a:solidFill>
                <a:latin typeface="Arial"/>
              </a:rPr>
              <a:t>18.</a:t>
            </a:r>
            <a:r>
              <a:rPr b="0" lang="sr-Latn-RS" sz="2400" spc="-1" strike="noStrike">
                <a:solidFill>
                  <a:srgbClr val="008ae8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8ae8"/>
                </a:solidFill>
                <a:latin typeface="Arial"/>
              </a:rPr>
              <a:t> kPa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8ae8"/>
                </a:solidFill>
                <a:latin typeface="Arial"/>
              </a:rPr>
              <a:t>&gt; 10 kPa (75 mmHg) on air</a:t>
            </a:r>
            <a:endParaRPr b="0" lang="en-US" sz="2400" spc="-1" strike="noStrike">
              <a:solidFill>
                <a:srgbClr val="008ae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8ae8"/>
                </a:solidFill>
                <a:latin typeface="Arial"/>
              </a:rPr>
              <a:t>pH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8ae8"/>
                </a:solidFill>
                <a:latin typeface="Arial"/>
              </a:rPr>
              <a:t>7.1</a:t>
            </a:r>
            <a:r>
              <a:rPr b="0" lang="sr-Latn-RS" sz="2400" spc="-1" strike="noStrike">
                <a:solidFill>
                  <a:srgbClr val="008ae8"/>
                </a:solidFill>
                <a:latin typeface="Arial"/>
              </a:rPr>
              <a:t>8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8ae8"/>
                </a:solidFill>
                <a:latin typeface="Arial"/>
              </a:rPr>
              <a:t>7.35 – 7.45</a:t>
            </a:r>
            <a:endParaRPr b="0" lang="en-US" sz="2400" spc="-1" strike="noStrike">
              <a:solidFill>
                <a:srgbClr val="008ae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8ae8"/>
                </a:solidFill>
                <a:latin typeface="Arial"/>
              </a:rPr>
              <a:t>PaCO</a:t>
            </a:r>
            <a:r>
              <a:rPr b="0" lang="en-GB" sz="2400" spc="-1" strike="noStrike" baseline="-25000">
                <a:solidFill>
                  <a:srgbClr val="008ae8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8ae8"/>
                </a:solidFill>
                <a:latin typeface="Arial"/>
              </a:rPr>
              <a:t>10.2 kPa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8ae8"/>
                </a:solidFill>
                <a:latin typeface="Arial"/>
              </a:rPr>
              <a:t>4.7 – 6.0 kPa</a:t>
            </a:r>
            <a:endParaRPr b="0" lang="en-US" sz="2400" spc="-1" strike="noStrike">
              <a:solidFill>
                <a:srgbClr val="008ae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8ae8"/>
                </a:solidFill>
                <a:latin typeface="Arial"/>
              </a:rPr>
              <a:t>Bicarbonate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8ae8"/>
                </a:solidFill>
                <a:latin typeface="Arial"/>
              </a:rPr>
              <a:t>23.6 mmol l</a:t>
            </a:r>
            <a:r>
              <a:rPr b="0" lang="en-GB" sz="2400" spc="-1" strike="noStrike" baseline="30000">
                <a:solidFill>
                  <a:srgbClr val="008ae8"/>
                </a:solidFill>
                <a:latin typeface="Arial"/>
              </a:rPr>
              <a:t>-1 </a:t>
            </a:r>
            <a:r>
              <a:rPr b="0" lang="sr-Latn-CS" sz="2400" spc="-1" strike="noStrike" baseline="30000">
                <a:solidFill>
                  <a:srgbClr val="008ae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8ae8"/>
                </a:solidFill>
                <a:latin typeface="Arial"/>
              </a:rPr>
              <a:t>22 – 26 mmol l</a:t>
            </a:r>
            <a:r>
              <a:rPr b="0" lang="en-GB" sz="2400" spc="-1" strike="noStrike" baseline="30000">
                <a:solidFill>
                  <a:srgbClr val="008ae8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8ae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8ae8"/>
                </a:solidFill>
                <a:latin typeface="Arial"/>
              </a:rPr>
              <a:t>Base excess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8ae8"/>
                </a:solidFill>
                <a:latin typeface="Arial"/>
              </a:rPr>
              <a:t>-2.4 mmol l</a:t>
            </a:r>
            <a:r>
              <a:rPr b="0" lang="en-GB" sz="2400" spc="-1" strike="noStrike" baseline="30000">
                <a:solidFill>
                  <a:srgbClr val="008ae8"/>
                </a:solidFill>
                <a:latin typeface="Arial"/>
              </a:rPr>
              <a:t>-1 </a:t>
            </a: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8ae8"/>
                </a:solidFill>
                <a:latin typeface="Arial"/>
              </a:rPr>
              <a:t>+/- 2 mmol l</a:t>
            </a:r>
            <a:r>
              <a:rPr b="0" lang="en-GB" sz="2400" spc="-1" strike="noStrike" baseline="30000">
                <a:solidFill>
                  <a:srgbClr val="008ae8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8ae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ae8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ae8"/>
                </a:solidFill>
                <a:latin typeface="Arial"/>
              </a:rPr>
              <a:t>What are you going to do now?</a:t>
            </a:r>
            <a:r>
              <a:rPr b="0" lang="sr-Latn-CS" sz="2400" spc="-1" strike="noStrike">
                <a:solidFill>
                  <a:srgbClr val="008ae8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Step 2: Assess oxygenation</a:t>
            </a: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Is the patient hypoxemic?</a:t>
            </a: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PaO2 should be about 10 kPa less than % inspiratory oxygen concentration</a:t>
            </a: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What now?</a:t>
            </a: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68ae"/>
                </a:solidFill>
                <a:latin typeface="Arial"/>
              </a:rPr>
              <a:t>Slučaj</a:t>
            </a:r>
            <a:r>
              <a:rPr b="0" lang="en-GB" sz="4400" spc="-1" strike="noStrike">
                <a:solidFill>
                  <a:srgbClr val="0068ae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836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Inspir</a:t>
            </a:r>
            <a:r>
              <a:rPr b="0" lang="sr-Latn-CS" sz="1700" spc="-1" strike="noStrike">
                <a:solidFill>
                  <a:srgbClr val="008ae8"/>
                </a:solidFill>
                <a:latin typeface="Arial"/>
              </a:rPr>
              <a:t>atorni kiseonik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40% (FiO</a:t>
            </a:r>
            <a:r>
              <a:rPr b="0" lang="en-GB" sz="1700" spc="-1" strike="noStrike" baseline="-25000">
                <a:solidFill>
                  <a:srgbClr val="008ae8"/>
                </a:solidFill>
                <a:latin typeface="Arial"/>
              </a:rPr>
              <a:t>2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 0.4)</a:t>
            </a:r>
            <a:endParaRPr b="0" lang="en-US" sz="17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 u="sng">
                <a:solidFill>
                  <a:srgbClr val="008ae8"/>
                </a:solidFill>
                <a:uFillTx/>
                <a:latin typeface="Arial"/>
              </a:rPr>
              <a:t>normal values</a:t>
            </a:r>
            <a:endParaRPr b="0" lang="en-US" sz="17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PaO</a:t>
            </a:r>
            <a:r>
              <a:rPr b="0" lang="en-GB" sz="1700" spc="-1" strike="noStrike" baseline="-25000">
                <a:solidFill>
                  <a:srgbClr val="008ae8"/>
                </a:solidFill>
                <a:latin typeface="Arial"/>
              </a:rPr>
              <a:t>2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18.</a:t>
            </a:r>
            <a:r>
              <a:rPr b="0" lang="sr-Latn-RS" sz="1700" spc="-1" strike="noStrike">
                <a:solidFill>
                  <a:srgbClr val="008ae8"/>
                </a:solidFill>
                <a:latin typeface="Arial"/>
              </a:rPr>
              <a:t>1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 kPa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&gt; 10 kPa (75 mmHg) on</a:t>
            </a:r>
            <a:r>
              <a:rPr b="0" lang="en-GB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air</a:t>
            </a:r>
            <a:endParaRPr b="0" lang="en-US" sz="17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pH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7.1</a:t>
            </a:r>
            <a:r>
              <a:rPr b="0" lang="sr-Latn-RS" sz="1700" spc="-1" strike="noStrike">
                <a:solidFill>
                  <a:srgbClr val="008ae8"/>
                </a:solidFill>
                <a:latin typeface="Arial"/>
              </a:rPr>
              <a:t>8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7.35 – 7.45</a:t>
            </a:r>
            <a:endParaRPr b="0" lang="en-US" sz="17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PaCO</a:t>
            </a:r>
            <a:r>
              <a:rPr b="0" lang="en-GB" sz="1700" spc="-1" strike="noStrike" baseline="-25000">
                <a:solidFill>
                  <a:srgbClr val="008ae8"/>
                </a:solidFill>
                <a:latin typeface="Arial"/>
              </a:rPr>
              <a:t>2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10.2 kPa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4.7 – 6.0 kPa</a:t>
            </a:r>
            <a:endParaRPr b="0" lang="en-US" sz="17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Bicarbonate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23.6 mmol l</a:t>
            </a:r>
            <a:r>
              <a:rPr b="0" lang="en-GB" sz="1700" spc="-1" strike="noStrike" baseline="30000">
                <a:solidFill>
                  <a:srgbClr val="008ae8"/>
                </a:solidFill>
                <a:latin typeface="Arial"/>
              </a:rPr>
              <a:t>-1 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22 – 26 mmol l</a:t>
            </a:r>
            <a:r>
              <a:rPr b="0" lang="en-GB" sz="1700" spc="-1" strike="noStrike" baseline="30000">
                <a:solidFill>
                  <a:srgbClr val="008ae8"/>
                </a:solidFill>
                <a:latin typeface="Arial"/>
              </a:rPr>
              <a:t>-1</a:t>
            </a:r>
            <a:endParaRPr b="0" lang="en-US" sz="17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Base excess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-2.4 mmol l</a:t>
            </a:r>
            <a:r>
              <a:rPr b="0" lang="en-GB" sz="1700" spc="-1" strike="noStrike" baseline="30000">
                <a:solidFill>
                  <a:srgbClr val="008ae8"/>
                </a:solidFill>
                <a:latin typeface="Arial"/>
              </a:rPr>
              <a:t>-1 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+/- 2 mmol l</a:t>
            </a:r>
            <a:r>
              <a:rPr b="0" lang="en-GB" sz="1700" spc="-1" strike="noStrike" baseline="30000">
                <a:solidFill>
                  <a:srgbClr val="008ae8"/>
                </a:solidFill>
                <a:latin typeface="Arial"/>
              </a:rPr>
              <a:t>-1</a:t>
            </a:r>
            <a:endParaRPr b="0" lang="en-US" sz="17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ae8"/>
                </a:solidFill>
                <a:latin typeface="Arial"/>
              </a:rPr>
              <a:t>Step 3: Define pH (or H+ concentration)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ae8"/>
                </a:solidFill>
                <a:latin typeface="Arial"/>
              </a:rPr>
              <a:t>Is the patient acidemic; pH &lt; 7.35?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ae8"/>
                </a:solidFill>
                <a:latin typeface="Arial"/>
              </a:rPr>
              <a:t>Is the patient alkalemic; pH &gt; 7.45?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ae8"/>
                </a:solidFill>
                <a:latin typeface="Arial"/>
              </a:rPr>
              <a:t>What now?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68ae"/>
                </a:solidFill>
                <a:latin typeface="Arial Unicode MS"/>
              </a:rPr>
              <a:t>GOALS</a:t>
            </a: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BASIC TERMS OF ACID-BASE STATUS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BASIC ACID-BASE BALANCE DISORDERS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INTERPRETATION OF ARTERIAL GAS ANALYSIS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68ae"/>
                </a:solidFill>
                <a:latin typeface="Arial"/>
              </a:rPr>
              <a:t>Slučaj 1</a:t>
            </a: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Inspired oxygen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40% (FiO</a:t>
            </a:r>
            <a:r>
              <a:rPr b="0" lang="en-GB" sz="1700" spc="-1" strike="noStrike" baseline="-25000">
                <a:solidFill>
                  <a:srgbClr val="008ae8"/>
                </a:solidFill>
                <a:latin typeface="Arial"/>
              </a:rPr>
              <a:t>2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 0.4)</a:t>
            </a:r>
            <a:endParaRPr b="0" lang="en-US" sz="17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 u="sng">
                <a:solidFill>
                  <a:srgbClr val="008ae8"/>
                </a:solidFill>
                <a:uFillTx/>
                <a:latin typeface="Arial"/>
              </a:rPr>
              <a:t>normal values</a:t>
            </a:r>
            <a:endParaRPr b="0" lang="en-US" sz="17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PaO</a:t>
            </a:r>
            <a:r>
              <a:rPr b="0" lang="en-GB" sz="1700" spc="-1" strike="noStrike" baseline="-25000">
                <a:solidFill>
                  <a:srgbClr val="008ae8"/>
                </a:solidFill>
                <a:latin typeface="Arial"/>
              </a:rPr>
              <a:t>2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18.8 kPa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&gt; 10 kPa (75 mmHg)</a:t>
            </a:r>
            <a:r>
              <a:rPr b="0" lang="en-GB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on air</a:t>
            </a:r>
            <a:endParaRPr b="0" lang="en-US" sz="17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pH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7.19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7.35 – 7.45</a:t>
            </a:r>
            <a:endParaRPr b="0" lang="en-US" sz="17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PaCO</a:t>
            </a:r>
            <a:r>
              <a:rPr b="0" lang="en-GB" sz="1700" spc="-1" strike="noStrike" baseline="-25000">
                <a:solidFill>
                  <a:srgbClr val="008ae8"/>
                </a:solidFill>
                <a:latin typeface="Arial"/>
              </a:rPr>
              <a:t>2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10.2 kPa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4.7 – 6.0 kPa</a:t>
            </a:r>
            <a:endParaRPr b="0" lang="en-US" sz="17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Bicarbonate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23.6 mmol l</a:t>
            </a:r>
            <a:r>
              <a:rPr b="0" lang="en-GB" sz="1700" spc="-1" strike="noStrike" baseline="30000">
                <a:solidFill>
                  <a:srgbClr val="008ae8"/>
                </a:solidFill>
                <a:latin typeface="Arial"/>
              </a:rPr>
              <a:t>-1 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22 – 26 mmol l</a:t>
            </a:r>
            <a:r>
              <a:rPr b="0" lang="en-GB" sz="1700" spc="-1" strike="noStrike" baseline="30000">
                <a:solidFill>
                  <a:srgbClr val="008ae8"/>
                </a:solidFill>
                <a:latin typeface="Arial"/>
              </a:rPr>
              <a:t>-1</a:t>
            </a:r>
            <a:endParaRPr b="0" lang="en-US" sz="17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Base excess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-2.4 mmol l</a:t>
            </a:r>
            <a:r>
              <a:rPr b="0" lang="en-GB" sz="1700" spc="-1" strike="noStrike" baseline="30000">
                <a:solidFill>
                  <a:srgbClr val="008ae8"/>
                </a:solidFill>
                <a:latin typeface="Arial"/>
              </a:rPr>
              <a:t>-1 </a:t>
            </a: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8ae8"/>
                </a:solidFill>
                <a:latin typeface="Arial"/>
              </a:rPr>
              <a:t>+/- 2 mmol l</a:t>
            </a:r>
            <a:r>
              <a:rPr b="0" lang="en-GB" sz="1700" spc="-1" strike="noStrike" baseline="30000">
                <a:solidFill>
                  <a:srgbClr val="008ae8"/>
                </a:solidFill>
                <a:latin typeface="Arial"/>
              </a:rPr>
              <a:t>-1</a:t>
            </a:r>
            <a:endParaRPr b="0" lang="en-US" sz="17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ae8"/>
                </a:solidFill>
                <a:latin typeface="Arial"/>
              </a:rPr>
              <a:t>Step 4: Determine the respiratory component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ae8"/>
                </a:solidFill>
                <a:latin typeface="Arial"/>
              </a:rPr>
              <a:t>If pH &lt; 7.35, is PaCO2 &gt; 6.0 kPa (45 mmHg)? - respiratory acidosis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ae8"/>
                </a:solidFill>
                <a:latin typeface="Arial"/>
              </a:rPr>
              <a:t>If pH &gt; 7.45, is PaCO2 &lt; 4.7 kPa (35 mmHg)? - respiratory alkalosis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ae8"/>
                </a:solidFill>
                <a:latin typeface="Arial"/>
              </a:rPr>
              <a:t>What now?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68ae"/>
                </a:solidFill>
                <a:latin typeface="Arial"/>
              </a:rPr>
              <a:t>SLUČAJ</a:t>
            </a:r>
            <a:r>
              <a:rPr b="0" lang="en-GB" sz="4400" spc="-1" strike="noStrike">
                <a:solidFill>
                  <a:srgbClr val="0068ae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9528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Inspired oxygen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40% (FiO</a:t>
            </a:r>
            <a:r>
              <a:rPr b="0" lang="en-GB" sz="1800" spc="-1" strike="noStrike" baseline="-25000">
                <a:solidFill>
                  <a:srgbClr val="008ae8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 0.4)</a:t>
            </a:r>
            <a:endParaRPr b="0" lang="en-US" sz="1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8ae8"/>
                </a:solidFill>
                <a:uFillTx/>
                <a:latin typeface="Arial"/>
              </a:rPr>
              <a:t>normal values</a:t>
            </a:r>
            <a:endParaRPr b="0" lang="en-US" sz="1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PaO</a:t>
            </a:r>
            <a:r>
              <a:rPr b="0" lang="en-GB" sz="1800" spc="-1" strike="noStrike" baseline="-25000">
                <a:solidFill>
                  <a:srgbClr val="008ae8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18.8 kPa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&gt; 10 kPa (75 mmHg) on air</a:t>
            </a:r>
            <a:endParaRPr b="0" lang="en-US" sz="1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pH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7.19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7.35 – 7.45</a:t>
            </a:r>
            <a:endParaRPr b="0" lang="en-US" sz="1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PaCO</a:t>
            </a:r>
            <a:r>
              <a:rPr b="0" lang="en-GB" sz="1800" spc="-1" strike="noStrike" baseline="-25000">
                <a:solidFill>
                  <a:srgbClr val="008ae8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10.2 kPa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4.7 – 6.0 kPa</a:t>
            </a:r>
            <a:endParaRPr b="0" lang="en-US" sz="1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Bicarbonate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23.6 mmol l</a:t>
            </a:r>
            <a:r>
              <a:rPr b="0" lang="en-GB" sz="1800" spc="-1" strike="noStrike" baseline="30000">
                <a:solidFill>
                  <a:srgbClr val="008ae8"/>
                </a:solidFill>
                <a:latin typeface="Arial"/>
              </a:rPr>
              <a:t>-1 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22 – 26 mmol l</a:t>
            </a:r>
            <a:r>
              <a:rPr b="0" lang="en-GB" sz="1800" spc="-1" strike="noStrike" baseline="30000">
                <a:solidFill>
                  <a:srgbClr val="008ae8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Base excess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-2.4 mmol l</a:t>
            </a:r>
            <a:r>
              <a:rPr b="0" lang="en-GB" sz="1800" spc="-1" strike="noStrike" baseline="30000">
                <a:solidFill>
                  <a:srgbClr val="008ae8"/>
                </a:solidFill>
                <a:latin typeface="Arial"/>
              </a:rPr>
              <a:t>-1 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+/- 2 mmol l</a:t>
            </a:r>
            <a:r>
              <a:rPr b="0" lang="en-GB" sz="1800" spc="-1" strike="noStrike" baseline="30000">
                <a:solidFill>
                  <a:srgbClr val="008ae8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8ae8"/>
                </a:solidFill>
                <a:latin typeface="Arial"/>
              </a:rPr>
              <a:t>Step 5: Determine the metabolic component</a:t>
            </a:r>
            <a:endParaRPr b="0" lang="en-US" sz="24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8ae8"/>
                </a:solidFill>
                <a:latin typeface="Arial"/>
              </a:rPr>
              <a:t>If pH &lt; 7.35, is HCO3- &lt; 22 mmol l-1 (base excess &lt; -2 mmol l-1) – metabolic acidosis</a:t>
            </a:r>
            <a:endParaRPr b="0" lang="en-US" sz="24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8ae8"/>
                </a:solidFill>
                <a:latin typeface="Arial"/>
              </a:rPr>
              <a:t>If pH &gt; 7.45, is HCO3- &gt; 26 mmol l-1 (base excess &gt; +2 mmol l-1) – metabolic alkalosis</a:t>
            </a:r>
            <a:endParaRPr b="0" lang="en-US" sz="24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68ae"/>
                </a:solidFill>
                <a:latin typeface="Arial"/>
              </a:rPr>
              <a:t>Slučaj </a:t>
            </a:r>
            <a:r>
              <a:rPr b="0" lang="en-GB" sz="4400" spc="-1" strike="noStrike">
                <a:solidFill>
                  <a:srgbClr val="0068ae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Inspired oxygen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40% (FiO</a:t>
            </a:r>
            <a:r>
              <a:rPr b="0" lang="en-GB" sz="1800" spc="-1" strike="noStrike" baseline="-25000">
                <a:solidFill>
                  <a:srgbClr val="008ae8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 0.4)</a:t>
            </a:r>
            <a:endParaRPr b="0" lang="en-US" sz="1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8ae8"/>
                </a:solidFill>
                <a:uFillTx/>
                <a:latin typeface="Arial"/>
              </a:rPr>
              <a:t>normal values</a:t>
            </a:r>
            <a:endParaRPr b="0" lang="en-US" sz="1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PaO</a:t>
            </a:r>
            <a:r>
              <a:rPr b="0" lang="en-GB" sz="1800" spc="-1" strike="noStrike" baseline="-25000">
                <a:solidFill>
                  <a:srgbClr val="008ae8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18.</a:t>
            </a:r>
            <a:r>
              <a:rPr b="0" lang="sr-Latn-RS" sz="1800" spc="-1" strike="noStrike">
                <a:solidFill>
                  <a:srgbClr val="008ae8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kPa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&gt; 10 kPa (75 mmHg) on air</a:t>
            </a:r>
            <a:endParaRPr b="0" lang="en-US" sz="1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pH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7.1</a:t>
            </a:r>
            <a:r>
              <a:rPr b="0" lang="sr-Latn-RS" sz="1800" spc="-1" strike="noStrike">
                <a:solidFill>
                  <a:srgbClr val="008ae8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7.35 – 7.45</a:t>
            </a:r>
            <a:endParaRPr b="0" lang="en-US" sz="1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PaCO</a:t>
            </a:r>
            <a:r>
              <a:rPr b="0" lang="en-GB" sz="1800" spc="-1" strike="noStrike" baseline="-25000">
                <a:solidFill>
                  <a:srgbClr val="008ae8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10.2 kPa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4.7 – 6.0 kPa</a:t>
            </a:r>
            <a:endParaRPr b="0" lang="en-US" sz="1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Bicarbonate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23.6 mmol l</a:t>
            </a:r>
            <a:r>
              <a:rPr b="0" lang="en-GB" sz="1800" spc="-1" strike="noStrike" baseline="30000">
                <a:solidFill>
                  <a:srgbClr val="008ae8"/>
                </a:solidFill>
                <a:latin typeface="Arial"/>
              </a:rPr>
              <a:t>-1 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22 – 26 mmol l</a:t>
            </a:r>
            <a:r>
              <a:rPr b="0" lang="en-GB" sz="1800" spc="-1" strike="noStrike" baseline="30000">
                <a:solidFill>
                  <a:srgbClr val="008ae8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Base excess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-2.4 mmol l</a:t>
            </a:r>
            <a:r>
              <a:rPr b="0" lang="en-GB" sz="1800" spc="-1" strike="noStrike" baseline="30000">
                <a:solidFill>
                  <a:srgbClr val="008ae8"/>
                </a:solidFill>
                <a:latin typeface="Arial"/>
              </a:rPr>
              <a:t>-1 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ae8"/>
                </a:solidFill>
                <a:latin typeface="Arial"/>
              </a:rPr>
              <a:t>+/- 2 mmol l</a:t>
            </a:r>
            <a:r>
              <a:rPr b="0" lang="en-GB" sz="1800" spc="-1" strike="noStrike" baseline="30000">
                <a:solidFill>
                  <a:srgbClr val="008ae8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ae8"/>
                </a:solidFill>
                <a:latin typeface="Arial"/>
              </a:rPr>
              <a:t>Conclusion: Acute respiratory acidosis with impaired oxygenation.</a:t>
            </a:r>
            <a:endParaRPr b="0" lang="en-US" sz="24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8ae"/>
                </a:solidFill>
                <a:latin typeface="Arial"/>
              </a:rPr>
              <a:t>Case 2</a:t>
            </a: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539640" y="1700280"/>
            <a:ext cx="8209080" cy="43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ae8"/>
                </a:solidFill>
                <a:latin typeface="Corbel"/>
                <a:ea typeface="Corbel"/>
              </a:rPr>
              <a:t>anamnestic data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ae8"/>
                </a:solidFill>
                <a:latin typeface="Corbel"/>
                <a:ea typeface="Corbel"/>
              </a:rPr>
              <a:t>A 58-year-old man was brought to the ED after witnessing an out-of-hospital cardiac arrest. Emergency doctors arrived after 8 minutes, during which CPR was not performed. His initial rhythm was VF and the Llekars established spontaneous circulation after the 3rd shock.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ae8"/>
                </a:solidFill>
                <a:latin typeface="Corbel"/>
                <a:ea typeface="Corbel"/>
              </a:rPr>
              <a:t>upon arrival: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ae8"/>
                </a:solidFill>
                <a:latin typeface="Corbel"/>
                <a:ea typeface="Corbel"/>
              </a:rPr>
              <a:t>- intubated, ventilated with 50% oxygen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ae8"/>
                </a:solidFill>
                <a:latin typeface="Corbel"/>
                <a:ea typeface="Corbel"/>
              </a:rPr>
              <a:t>- HR 126 min-1, BP 155/90 mmHg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ae8"/>
                </a:solidFill>
                <a:latin typeface="Corbel"/>
                <a:ea typeface="Corbel"/>
              </a:rPr>
              <a:t>- In a coma (GCS 3)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ae8"/>
                </a:solidFill>
                <a:latin typeface="Corbel"/>
                <a:ea typeface="Corbel"/>
              </a:rPr>
              <a:t>Apply 5-step analysis of arterial blood gas analysis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173160" y="1614600"/>
            <a:ext cx="879768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68ae"/>
                </a:solidFill>
                <a:latin typeface="Arial"/>
              </a:rPr>
              <a:t>Slučaj 2</a:t>
            </a: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063800" y="2065320"/>
            <a:ext cx="7016400" cy="27259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3"/>
          <p:cNvSpPr/>
          <p:nvPr/>
        </p:nvSpPr>
        <p:spPr>
          <a:xfrm>
            <a:off x="755640" y="4280040"/>
            <a:ext cx="7416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d2e"/>
                </a:solidFill>
                <a:latin typeface="Corbel"/>
                <a:ea typeface="Corbel"/>
              </a:rPr>
              <a:t>conclusion:</a:t>
            </a:r>
            <a:endParaRPr b="0" lang="en-US" sz="2400" spc="-1" strike="noStrike">
              <a:solidFill>
                <a:srgbClr val="008ae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d2e"/>
                </a:solidFill>
                <a:latin typeface="Corbel"/>
                <a:ea typeface="Corbel"/>
              </a:rPr>
              <a:t>These are typical ABGs after prolonged cardiac arrest.</a:t>
            </a:r>
            <a:endParaRPr b="0" lang="en-US" sz="2400" spc="-1" strike="noStrike">
              <a:solidFill>
                <a:srgbClr val="008ae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d2e"/>
                </a:solidFill>
                <a:latin typeface="Corbel"/>
                <a:ea typeface="Corbel"/>
              </a:rPr>
              <a:t>There is a mixed metabolic and respiratory acidosis - the dominant component is metabolic, with significant impairment of oxygenation</a:t>
            </a:r>
            <a:r>
              <a:rPr b="1" lang="en-US" sz="2400" spc="-1" strike="noStrike">
                <a:solidFill>
                  <a:srgbClr val="001d2e"/>
                </a:solidFill>
                <a:latin typeface="Corbel"/>
                <a:ea typeface="Arial"/>
              </a:rPr>
              <a:t>.</a:t>
            </a:r>
            <a:endParaRPr b="0" lang="en-US" sz="24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68ae"/>
                </a:solidFill>
                <a:latin typeface="Arial"/>
              </a:rPr>
              <a:t>Slučaj 3</a:t>
            </a: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684360" y="2205000"/>
            <a:ext cx="8064360" cy="43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orbel"/>
                <a:ea typeface="Corbel"/>
              </a:rPr>
              <a:t>anamnestic data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orbel"/>
                <a:ea typeface="Corbel"/>
              </a:rPr>
              <a:t>A 60-year-old woman with severe COPD collapsed in the pulmonology department. During the initial examination, she is not breathing and has a palpable carotid pulse. The nurse initiates balloon-mask ventilation with supplemental oxygen and calls the cardiac arrest team.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orbel"/>
                <a:ea typeface="Corbel"/>
              </a:rPr>
              <a:t>upon arrival: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orbel"/>
                <a:ea typeface="Corbel"/>
              </a:rPr>
              <a:t>- Oropharyngeal airway, ventilated with ambu balloon, oxygen - 15 l min-1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orbel"/>
                <a:ea typeface="Corbel"/>
              </a:rPr>
              <a:t>- Carotid pulse palpable, 90 min-1, SpO2 99%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orbel"/>
                <a:ea typeface="Corbel"/>
              </a:rPr>
              <a:t>- Coma (GCS 3)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orbel"/>
                <a:ea typeface="Corbel"/>
              </a:rPr>
              <a:t>Apply 5-step analysis of arterial blood gas analysis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68ae"/>
                </a:solidFill>
                <a:latin typeface="Arial"/>
              </a:rPr>
              <a:t>Case 3</a:t>
            </a: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1227240" y="2065320"/>
            <a:ext cx="668808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998640" y="1978200"/>
            <a:ext cx="7145280" cy="290160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"/>
          <p:cNvSpPr/>
          <p:nvPr/>
        </p:nvSpPr>
        <p:spPr>
          <a:xfrm>
            <a:off x="468360" y="4581360"/>
            <a:ext cx="7920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Arial"/>
                <a:ea typeface="Arial"/>
              </a:rPr>
              <a:t>Conclusion:</a:t>
            </a:r>
            <a:endParaRPr b="0" lang="en-US" sz="2000" spc="-1" strike="noStrike">
              <a:solidFill>
                <a:srgbClr val="008ae8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Arial"/>
                <a:ea typeface="Arial"/>
              </a:rPr>
              <a:t>Significant acidemia (pH 7.10) indicates acute respiratory acidosis as a consequence of respiratory arrest. In pre-existing compensated chronic respiratory acidosis, the pH would be close to normal.</a:t>
            </a:r>
            <a:endParaRPr b="0" lang="en-US" sz="20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68ae"/>
                </a:solidFill>
                <a:latin typeface="Arial"/>
              </a:rPr>
              <a:t>Case 4</a:t>
            </a: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7" name="TextBox 2"/>
          <p:cNvSpPr/>
          <p:nvPr/>
        </p:nvSpPr>
        <p:spPr>
          <a:xfrm>
            <a:off x="539640" y="2133720"/>
            <a:ext cx="828036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ae8"/>
                </a:solidFill>
                <a:latin typeface="Corbel"/>
                <a:ea typeface="Corbel"/>
              </a:rPr>
              <a:t>Anamnesis data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ae8"/>
                </a:solidFill>
                <a:latin typeface="Corbel"/>
                <a:ea typeface="Corbel"/>
              </a:rPr>
              <a:t>A 16-year-old insulin-dependent diabetic was admitted to the Emergency Center. He was vomiting for 48 hours, and since he could not eat, he did not take insulin.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ae8"/>
                </a:solidFill>
                <a:latin typeface="Corbel"/>
                <a:ea typeface="Corbel"/>
              </a:rPr>
              <a:t>on arrival: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ae8"/>
                </a:solidFill>
                <a:latin typeface="Corbel"/>
                <a:ea typeface="Corbel"/>
              </a:rPr>
              <a:t>He breathes spontaneously, RR 36 min-1, oxygen 5 l min-1 via mask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ae8"/>
                </a:solidFill>
                <a:latin typeface="Corbel"/>
                <a:ea typeface="Corbel"/>
              </a:rPr>
              <a:t>      </a:t>
            </a:r>
            <a:r>
              <a:rPr b="1" lang="en-US" sz="2200" spc="-1" strike="noStrike">
                <a:solidFill>
                  <a:srgbClr val="008ae8"/>
                </a:solidFill>
                <a:latin typeface="Corbel"/>
                <a:ea typeface="Corbel"/>
              </a:rPr>
              <a:t>SpO2 98%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ae8"/>
                </a:solidFill>
                <a:latin typeface="Corbel"/>
                <a:ea typeface="Corbel"/>
              </a:rPr>
              <a:t>- HR 135 min-1, BP 90/60 mmHg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ae8"/>
                </a:solidFill>
                <a:latin typeface="Corbel"/>
                <a:ea typeface="Corbel"/>
              </a:rPr>
              <a:t>- GCS 12 (E3, M5, V4)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ae8"/>
                </a:solidFill>
                <a:latin typeface="Corbel"/>
                <a:ea typeface="Corbel"/>
              </a:rPr>
              <a:t>Apply 5-step analysis of arterial blood gas analysis</a:t>
            </a:r>
            <a:endParaRPr b="0" lang="en-US" sz="22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68ae"/>
                </a:solidFill>
                <a:latin typeface="Arial"/>
              </a:rPr>
              <a:t>Acid-base status</a:t>
            </a: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H ions generated during normal cell metabolism must be buffered and excreted by the kidneys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The concentration of H ions is low - 40 nmol/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It is expressed as the negative logarithm of the H ion concentration, pH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68ae"/>
                </a:solidFill>
                <a:latin typeface="Arial"/>
              </a:rPr>
              <a:t>Case 4</a:t>
            </a: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rcRect l="0" t="12194" r="0" b="0"/>
          <a:stretch/>
        </p:blipFill>
        <p:spPr>
          <a:xfrm>
            <a:off x="1135080" y="1233360"/>
            <a:ext cx="6584760" cy="3297240"/>
          </a:xfrm>
          <a:prstGeom prst="rect">
            <a:avLst/>
          </a:prstGeom>
          <a:ln w="0">
            <a:noFill/>
          </a:ln>
        </p:spPr>
      </p:pic>
      <p:sp>
        <p:nvSpPr>
          <p:cNvPr id="280" name="TextBox 2"/>
          <p:cNvSpPr/>
          <p:nvPr/>
        </p:nvSpPr>
        <p:spPr>
          <a:xfrm>
            <a:off x="900000" y="431784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Arial"/>
                <a:ea typeface="Arial"/>
              </a:rPr>
              <a:t>Conclusion:</a:t>
            </a:r>
            <a:endParaRPr b="0" lang="en-US" sz="2000" spc="-1" strike="noStrike">
              <a:solidFill>
                <a:srgbClr val="008ae8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Arial"/>
                <a:ea typeface="Arial"/>
              </a:rPr>
              <a:t>These gas analyzes are typical of severe diabetic ketoacidosis. This is primarily metabolic acidosis partially compensated by respiratory alkalosis</a:t>
            </a:r>
            <a:r>
              <a:rPr b="1" lang="sr-Latn-RS" sz="1800" spc="-1" strike="noStrike">
                <a:solidFill>
                  <a:srgbClr val="161616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8ae"/>
                </a:solidFill>
                <a:latin typeface="Arial"/>
              </a:rPr>
              <a:t>The role of H ions in the functions of the organism</a:t>
            </a:r>
            <a:endParaRPr b="0" lang="en-US" sz="40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For the integrity and functioning of cells (enzymes)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Maintenance of normal distribution of electrolytes (potassium)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Optimal myocardial contractility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The ability of hemoglobin to bind oxygen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8ae"/>
                </a:solidFill>
                <a:latin typeface="Arial"/>
              </a:rPr>
              <a:t>The role of H ions in the functions of the organism</a:t>
            </a: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Disturbances of the acid-base state and oxygenation cause disturbances in the state of consciousness, heart rhythm, breathing pattern and death.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68ae"/>
                </a:solidFill>
                <a:latin typeface="Arial"/>
              </a:rPr>
              <a:t>Maintenance of acid-base balance</a:t>
            </a:r>
            <a:endParaRPr b="0" lang="en-US" sz="40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1. Buffer systems (bicarbonate, hemoglobin, phosphates, plasma proteins) - proton acceptors, react instantly</a:t>
            </a: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The most important bicarbonate, represented by the Henderson-Hasselbalch equation, according to which the pH remains normal, if the ratio c HCO3 : c CO2 is 20:1</a:t>
            </a: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H2CO3, CO2 is eliminated through the lungs, H2O through the kidneys</a:t>
            </a: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8ae8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68ae"/>
                </a:solidFill>
                <a:latin typeface="Arial"/>
              </a:rPr>
              <a:t>Maintenance of acid-base balance</a:t>
            </a:r>
            <a:endParaRPr b="0" lang="en-US" sz="40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Compensation - symbiotic action of the lungs (1-3min) and kidneys (12-24h) in maintaining the HCO3/CO2 ratio, 20:1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Primarily metabolic disorders are compensated by respiratory changes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Respiratory disorders, metabolic changes (changes in c HCO3)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Returning Ph to normal values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68ae"/>
                </a:solidFill>
                <a:latin typeface="Arial"/>
              </a:rPr>
              <a:t>Compensation</a:t>
            </a: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Metabolic disorders - change in c HCO3. pH disturbances. Compensatory ventilatory response - hyper or hypoventilation, decrease or increase PaCO2</a:t>
            </a: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e8"/>
                </a:solidFill>
                <a:latin typeface="Arial"/>
              </a:rPr>
              <a:t>Ventilatory disorders alter PaCO2. the pH changes. The kidneys commensurately increase the secretion of H+ (CO2 is hydrated to carbonic acid) with the reabsorption of K+ and bicarbonate.</a:t>
            </a:r>
            <a:r>
              <a:rPr b="0" lang="sr-Latn-CS" sz="2800" spc="-1" strike="noStrike">
                <a:solidFill>
                  <a:srgbClr val="008ae8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68ae"/>
                </a:solidFill>
                <a:latin typeface="Arial"/>
              </a:rPr>
              <a:t>Disorders of acid-base status</a:t>
            </a: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8ae8"/>
                </a:solidFill>
                <a:latin typeface="Arial"/>
              </a:rPr>
              <a:t>Metabolic alkalosis (pH&gt; 7.45 and HCO3 &gt; 26 mmo/l)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8ae8"/>
                </a:solidFill>
                <a:latin typeface="Arial"/>
              </a:rPr>
              <a:t>Metabolic acidosis (pH &lt; 7.35 and HCO3 &lt; 22mmol/)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8ae8"/>
                </a:solidFill>
                <a:latin typeface="Arial"/>
              </a:rPr>
              <a:t>Respiratory alkalosis (pH&gt;7.45, pCO2 &lt; 4.7kPa(35mmHg)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8ae8"/>
                </a:solidFill>
                <a:latin typeface="Arial"/>
              </a:rPr>
              <a:t>Respiratory acidosis (pH&lt; 7.35, PaCO2 &gt; 6kPa (45mmHg)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7T10:44:53Z</dcterms:created>
  <dc:creator>vv</dc:creator>
  <dc:description/>
  <dc:language>en-US</dc:language>
  <cp:lastModifiedBy>Korisnik</cp:lastModifiedBy>
  <dcterms:modified xsi:type="dcterms:W3CDTF">2025-04-16T20:26:31Z</dcterms:modified>
  <cp:revision>47</cp:revision>
  <dc:subject/>
  <dc:title>ACIDO-BAZNI STATUS</dc:title>
</cp:coreProperties>
</file>